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C03-9E1A-483B-80E6-3E162FB3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0BF-D59F-47B4-97E0-9C20DDFF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2A0-9C9B-43C9-ADEB-8EF07616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241-5CF9-411D-88D2-8E53231E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696-AAC3-40AA-8D0E-B9C054C3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CDD-85B8-40A0-B255-562A7043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4CF-9EE1-47AC-8903-AFAD68A7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AC0-9AA9-4DEF-851D-65F76172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1A2-AF2C-4CED-8548-345DE55E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C67-2077-4E87-A1D6-EA3F8A02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CFC-F7B1-4604-926C-E0FCD284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195-3016-40E9-BBE2-E5997B6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1AB1-C483-45BD-9BC2-2D8F6788EA1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AJUSTE FINO” ZONAS CON LIMITACIONE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TREMADURA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COMITÉ DE SEGU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PDR EXTREMADURA 2014-2022</a:t>
            </a:r>
            <a:r>
              <a:rPr b="1" lang="pl-PL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20 junio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2317680" y="2062080"/>
          <a:ext cx="4257720" cy="3803760"/>
        </p:xfrm>
        <a:graphic>
          <a:graphicData uri="http://schemas.openxmlformats.org/drawingml/2006/table">
            <a:tbl>
              <a:tblPr/>
              <a:tblGrid>
                <a:gridCol w="1330560"/>
                <a:gridCol w="2927160"/>
              </a:tblGrid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ed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s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on Ben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uareñ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ch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ngab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tor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nueva de la Se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ángulo 3"/>
          <p:cNvSpPr/>
          <p:nvPr/>
        </p:nvSpPr>
        <p:spPr>
          <a:xfrm>
            <a:off x="1003320" y="1057320"/>
            <a:ext cx="72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eciséis municipios que en el período 2007 –2013, no reunían la consideración de desfavorecidos por despoblamiento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87" name="Rectángulo 3"/>
          <p:cNvSpPr/>
          <p:nvPr/>
        </p:nvSpPr>
        <p:spPr>
          <a:xfrm>
            <a:off x="923760" y="1197000"/>
            <a:ext cx="72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que en el período 2007 –2013, reunían la consideración de desfavorecidos, </a:t>
            </a:r>
            <a:r>
              <a:rPr b="1" lang="es-ES" sz="18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pasan a tener la consideración de ZONAS ORDIN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2876400"/>
          <a:ext cx="4748400" cy="2054520"/>
        </p:xfrm>
        <a:graphic>
          <a:graphicData uri="http://schemas.openxmlformats.org/drawingml/2006/table">
            <a:tbl>
              <a:tblPr/>
              <a:tblGrid>
                <a:gridCol w="2327400"/>
                <a:gridCol w="2421000"/>
              </a:tblGrid>
              <a:tr h="293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atej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j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Pueblonuevo de Miramo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Rosale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alay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ÁC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 Unicode MS"/>
                        </a:rPr>
                        <a:t>Tié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ángulo 5"/>
          <p:cNvSpPr/>
          <p:nvPr/>
        </p:nvSpPr>
        <p:spPr>
          <a:xfrm>
            <a:off x="439560" y="1671480"/>
            <a:ext cx="833616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proponen distintos métod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versiones que podrían considerarse en frente al criterio de aridez (regadío, invernade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tividad económica. Producción st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ndimiento medio de un cultivo do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ga gan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ltivos permanentes / densidad de árb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tividad normal de l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arios y métod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ángulo 6"/>
          <p:cNvSpPr/>
          <p:nvPr/>
        </p:nvSpPr>
        <p:spPr>
          <a:xfrm>
            <a:off x="314280" y="1000080"/>
            <a:ext cx="858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ocumento (07/2016) Ajuste fino para limitaciones naturales y específicas signifi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097000" y="4282920"/>
          <a:ext cx="6562800" cy="1920960"/>
        </p:xfrm>
        <a:graphic>
          <a:graphicData uri="http://schemas.openxmlformats.org/drawingml/2006/table">
            <a:tbl>
              <a:tblPr/>
              <a:tblGrid>
                <a:gridCol w="878040"/>
                <a:gridCol w="2143080"/>
                <a:gridCol w="830160"/>
                <a:gridCol w="976320"/>
                <a:gridCol w="939960"/>
                <a:gridCol w="795240"/>
              </a:tblGrid>
              <a:tr h="426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. Total (Km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U_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up regad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 regadio &gt;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ell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4,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563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.33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a de la 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4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00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1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41,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5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anta Am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3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.117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.695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illar de R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2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994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.290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8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Valdelacal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1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974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838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3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ADAJ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ueblonuevo del Guadi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,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.043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.606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444600" y="591120"/>
            <a:ext cx="8254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 ha utilizado el ajuste de l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ficies de regadí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ntendiendo que es u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istema agrícola de explotación diferenciado, posibilita la existencia de cultivos y producciones muy superiores a las superficies de secano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de modo que el rendimiento económico obtenido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ermite considerar superadas las limitaciones natural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simulaciones efectuadas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 la designación de las zonas con limitaciones naturales significativas tras el ajuste de las superficies de regadío, existen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is municipios en los que su superficie agrícola de regadío no cumple los umbrales mínimos de los criterios empleados en la delimit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La relación de municipios que quedarían excluidos de las zonas con limitaciones naturales son (% SAU superior al 7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4630680"/>
            <a:ext cx="182880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105" name="Imagen 2" descr=""/>
          <p:cNvPicPr/>
          <p:nvPr/>
        </p:nvPicPr>
        <p:blipFill>
          <a:blip r:embed="rId2"/>
          <a:stretch/>
        </p:blipFill>
        <p:spPr>
          <a:xfrm>
            <a:off x="1125360" y="0"/>
            <a:ext cx="6643800" cy="614052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" descr=""/>
          <p:cNvPicPr/>
          <p:nvPr/>
        </p:nvPicPr>
        <p:blipFill>
          <a:blip r:embed="rId3"/>
          <a:stretch/>
        </p:blipFill>
        <p:spPr>
          <a:xfrm>
            <a:off x="6664320" y="401760"/>
            <a:ext cx="1266840" cy="1095120"/>
          </a:xfrm>
          <a:prstGeom prst="rect">
            <a:avLst/>
          </a:prstGeom>
          <a:ln w="0">
            <a:noFill/>
          </a:ln>
        </p:spPr>
      </p:pic>
      <p:sp>
        <p:nvSpPr>
          <p:cNvPr id="107" name="CuadroTexto 5"/>
          <p:cNvSpPr/>
          <p:nvPr/>
        </p:nvSpPr>
        <p:spPr>
          <a:xfrm>
            <a:off x="7091280" y="627120"/>
            <a:ext cx="1322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ORDINA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adroTexto 6"/>
          <p:cNvSpPr/>
          <p:nvPr/>
        </p:nvSpPr>
        <p:spPr>
          <a:xfrm>
            <a:off x="7091280" y="841320"/>
            <a:ext cx="1584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MONTAÑ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adroTexto 7"/>
          <p:cNvSpPr/>
          <p:nvPr/>
        </p:nvSpPr>
        <p:spPr>
          <a:xfrm>
            <a:off x="7080120" y="1068480"/>
            <a:ext cx="18147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ESPECÍFIC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adroTexto 8"/>
          <p:cNvSpPr/>
          <p:nvPr/>
        </p:nvSpPr>
        <p:spPr>
          <a:xfrm>
            <a:off x="7091280" y="1282680"/>
            <a:ext cx="1584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 Narrow"/>
                <a:ea typeface="Arial"/>
              </a:rPr>
              <a:t>ZONA LIMITACIONES NATUR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adroTexto 9"/>
          <p:cNvSpPr/>
          <p:nvPr/>
        </p:nvSpPr>
        <p:spPr>
          <a:xfrm>
            <a:off x="5997600" y="4983120"/>
            <a:ext cx="2897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DELIMITACIÓN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2"/>
          <p:cNvSpPr/>
          <p:nvPr/>
        </p:nvSpPr>
        <p:spPr>
          <a:xfrm>
            <a:off x="0" y="3619440"/>
            <a:ext cx="183816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2405160" y="1236600"/>
            <a:ext cx="4878360" cy="46893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3"/>
          <p:cNvSpPr/>
          <p:nvPr/>
        </p:nvSpPr>
        <p:spPr>
          <a:xfrm>
            <a:off x="0" y="279360"/>
            <a:ext cx="3773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EM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Z. L.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IMITACIÓN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  <a:ea typeface="Arial"/>
              </a:rPr>
              <a:t>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0" y="6278400"/>
            <a:ext cx="8894880" cy="5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874800" y="1703520"/>
          <a:ext cx="7386480" cy="2468520"/>
        </p:xfrm>
        <a:graphic>
          <a:graphicData uri="http://schemas.openxmlformats.org/drawingml/2006/table">
            <a:tbl>
              <a:tblPr/>
              <a:tblGrid>
                <a:gridCol w="3371760"/>
                <a:gridCol w="2008080"/>
                <a:gridCol w="2006640"/>
              </a:tblGrid>
              <a:tr h="54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Z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07 -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RÍODO 2014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de montañ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naturales signific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en zonas con limitaciones específ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nicipios sin limi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-468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8 Rectángulo"/>
          <p:cNvSpPr/>
          <p:nvPr/>
        </p:nvSpPr>
        <p:spPr>
          <a:xfrm>
            <a:off x="0" y="-144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2"/>
          <p:cNvSpPr/>
          <p:nvPr/>
        </p:nvSpPr>
        <p:spPr>
          <a:xfrm>
            <a:off x="0" y="922320"/>
            <a:ext cx="492120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_AJUSTE F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ángulo 6"/>
          <p:cNvSpPr/>
          <p:nvPr/>
        </p:nvSpPr>
        <p:spPr>
          <a:xfrm>
            <a:off x="326880" y="3975120"/>
            <a:ext cx="8812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especto de los beneficiarios de las zonas que ya no sean subvencionables como consecuencia de la nueva delimitación a que se refiere el artículo 32, apartado 3, 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dichos pagos serán </a:t>
            </a:r>
            <a:r>
              <a:rPr b="1" i="1" lang="es-ES" sz="16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decrecientes</a:t>
            </a:r>
            <a:r>
              <a:rPr b="1" i="1" lang="es-ES" sz="1600" spc="-1" strike="noStrike">
                <a:solidFill>
                  <a:srgbClr val="ff0000"/>
                </a:solidFill>
                <a:latin typeface="Arial Narrow"/>
                <a:ea typeface="Arial"/>
              </a:rPr>
              <a:t> durante un período máximo de cuatro años.</a:t>
            </a:r>
            <a:r>
              <a:rPr b="0" i="1" lang="es-E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Dicho período se contará a partir de la fecha en que se haya completado la delimitación con arreglo al artículo 33, apartado 3, y a más tardar en 2018. Los pagos empezarán con un máximo del 80 % del promedio del pago que se fije en el programa para el período de programación 2007-2013 de conformidad con el artículo 36, letra a), inciso ii) del Reglamento (CE) n o 1698/2005, y finalizarán en 2020 a más tardar con un máximo del 20 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626112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"/>
          <p:cNvSpPr/>
          <p:nvPr/>
        </p:nvSpPr>
        <p:spPr>
          <a:xfrm>
            <a:off x="522360" y="461880"/>
            <a:ext cx="7848360" cy="57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F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Tahoma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2"/>
          <p:cNvSpPr/>
          <p:nvPr/>
        </p:nvSpPr>
        <p:spPr>
          <a:xfrm>
            <a:off x="420840" y="557280"/>
            <a:ext cx="825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lo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teriores períodos de program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los criterios empleados para la delimitación de las zonas con limitaciones naturales fue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desfavorecidas de Montaña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xplotaciones agrarias con una combinación de los dos factores anteriores (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titud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pendiente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Zonas con riesgo de despoblación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Condiciones simultáne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cia de tierras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co productiva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ndices de caracterización económica agraria muy bajo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on respecto a la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casa densidad, o tendencia a la disminución, de la población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 depende de la actividad agraria y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uya disminución implicaría la dificultad de mantenimiento de viabilidad la actividad económica y soci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  Zonas con dificultades especiales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on aquellas en las que las actividades productivas están limitadas para evitar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 impacto en el hábitat natural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Mantener en ellas la gestión de las tierras para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preservar o mejorar el medio ambiente</a:t>
            </a: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ANTECE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48" name="Rectángulo 2"/>
          <p:cNvSpPr/>
          <p:nvPr/>
        </p:nvSpPr>
        <p:spPr>
          <a:xfrm>
            <a:off x="646200" y="619200"/>
            <a:ext cx="7843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l artículo 32 “Designación de zonas con limitaciones naturales u otras limitaciones específicas “, del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lamento (UE) nº 1305/2013 </a:t>
            </a: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l Parlamento Europeo y del Consejo de 17 de diciembre de 2013 relativo a la ayuda al desarrollo rural a través del Fondo Europeo Agrícola de Desarrollo Rural (FEADER) y por el que se deroga el Reglamento (CE) nº 1698/2005 del Consejo, determin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designarán, sobre la base de los apartados 2, 3 y 4, las zonas que pueden optar a los pagos previstos en el artículo 31 de acuerdo con las siguientes categorí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e montaña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Zonas distintas de las de montaña con limitaciones naturales significativ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70c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70c0"/>
                </a:solidFill>
                <a:uFillTx/>
                <a:latin typeface="Arial Narrow"/>
                <a:ea typeface="Times New Roman"/>
              </a:rPr>
              <a:t>Otras zonas con limitaciones específicas</a:t>
            </a:r>
            <a:r>
              <a:rPr b="1" i="1" lang="es-ES" sz="2000" spc="-1" strike="noStrike">
                <a:solidFill>
                  <a:srgbClr val="0070c0"/>
                </a:solidFill>
                <a:latin typeface="Arial Narrow"/>
                <a:ea typeface="Times New Roman"/>
              </a:rPr>
              <a:t> (Submedida 13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Rectángulo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PROGRAMA OPERATIVO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2" name="Rectángulo 2"/>
          <p:cNvSpPr/>
          <p:nvPr/>
        </p:nvSpPr>
        <p:spPr>
          <a:xfrm>
            <a:off x="523800" y="538200"/>
            <a:ext cx="80964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DRÁN OPTAR A LOS PAG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dades Administrativas Locales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LAU 2) o en el nivel de una unidad local claramente delimitada que cubra una sola zona geográfica contigua precisa, dotada de una identidad económica y administrativa qu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 menos, el 60 % de la superficie agrícola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umple,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mo mínimo, uno 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os criterios enumerados en el anexo III del Reglamento 1305/2013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GRUES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s Estados miembros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berán llevar a cabo una delimitación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ecis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arreglo a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criterios objetivos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n el fin d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excluir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s zonas en que se hayan documentado limitaciones naturales significativas pero que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hayan superado tales limitaciones como consecuencia de las inversiones o la actividad económica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</a:t>
            </a:r>
            <a:r>
              <a:rPr b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“AJUSTE FIN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sp>
        <p:nvSpPr>
          <p:cNvPr id="57" name="Rectángulo 2"/>
          <p:cNvSpPr/>
          <p:nvPr/>
        </p:nvSpPr>
        <p:spPr>
          <a:xfrm>
            <a:off x="385920" y="1031760"/>
            <a:ext cx="8508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el actual </a:t>
            </a:r>
            <a:r>
              <a:rPr b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de Desarrollo Rural 2014-2020, Submedida 13.2 Pago de compensación para otras áreas que afrontan limitaciones naturales considerables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apartado 8.2.11.3.2.6. 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diciones de admisibilidad</a:t>
            </a: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estable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las zon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lo establecido en el apartado 5 del artículo 31 del Reglamento (UE) 1305/2013, los Estados miembros aplicarán la nueva delimitación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 más tardar en 2018</a:t>
            </a:r>
            <a:r>
              <a:rPr b="0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, </a:t>
            </a:r>
            <a:r>
              <a:rPr b="1" i="1" lang="es-ES" sz="2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mientras se continuará con la del período 2007-2013</a:t>
            </a:r>
            <a:r>
              <a:rPr b="0" i="1" lang="es-E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; (…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28560" y="2763720"/>
          <a:ext cx="8266320" cy="2438640"/>
        </p:xfrm>
        <a:graphic>
          <a:graphicData uri="http://schemas.openxmlformats.org/drawingml/2006/table">
            <a:tbl>
              <a:tblPr/>
              <a:tblGrid>
                <a:gridCol w="1928880"/>
                <a:gridCol w="4383000"/>
                <a:gridCol w="1954440"/>
              </a:tblGrid>
              <a:tr h="3052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RI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M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idez (o sequí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lación entre las precipitaciones anuales (P) y la evapotranspiración potencial anual (E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P / ETP ≤ 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extura y dureza desfavor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lementos gruesos en el suelo (% volumétric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diente escarp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mbio de elevación respecto a la distancia planimétrica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≥ </a:t>
                      </a:r>
                      <a:r>
                        <a:rPr b="1" lang="es-ES" sz="2000" spc="-1" strike="noStrike">
                          <a:solidFill>
                            <a:srgbClr val="ff0000"/>
                          </a:solidFill>
                          <a:latin typeface="Arial Narrow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44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Rectángulo"/>
          <p:cNvSpPr/>
          <p:nvPr/>
        </p:nvSpPr>
        <p:spPr>
          <a:xfrm>
            <a:off x="0" y="0"/>
            <a:ext cx="91440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ZONAS DISTINTAS DE LAS DE MONTAÑA CON LIMITACIONES NATURALES SIGNIF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2"/>
          <p:cNvSpPr/>
          <p:nvPr/>
        </p:nvSpPr>
        <p:spPr>
          <a:xfrm>
            <a:off x="0" y="606600"/>
            <a:ext cx="4211640" cy="368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ángulo 6"/>
          <p:cNvSpPr/>
          <p:nvPr/>
        </p:nvSpPr>
        <p:spPr>
          <a:xfrm>
            <a:off x="628560" y="1376280"/>
            <a:ext cx="826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metodología empleada aparece desarrollada y justificada en el Marco Nacional, </a:t>
            </a:r>
            <a:r>
              <a:rPr b="1" lang="es-ES" sz="2000" spc="-1" strike="noStrike">
                <a:solidFill>
                  <a:srgbClr val="000000"/>
                </a:solidFill>
                <a:latin typeface="Arial Narrow"/>
                <a:ea typeface="Arial"/>
              </a:rPr>
              <a:t>adoptado por la Comisión el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  <a:ea typeface="Arial"/>
              </a:rPr>
              <a:t>día 13 de febrero d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68" name="Imagen 2" descr=""/>
          <p:cNvPicPr/>
          <p:nvPr/>
        </p:nvPicPr>
        <p:blipFill>
          <a:blip r:embed="rId2"/>
          <a:stretch/>
        </p:blipFill>
        <p:spPr>
          <a:xfrm>
            <a:off x="7920" y="0"/>
            <a:ext cx="4438800" cy="310680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3"/>
          <a:stretch/>
        </p:blipFill>
        <p:spPr>
          <a:xfrm>
            <a:off x="4700520" y="0"/>
            <a:ext cx="442908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Imagen 5" descr=""/>
          <p:cNvPicPr/>
          <p:nvPr/>
        </p:nvPicPr>
        <p:blipFill>
          <a:blip r:embed="rId4"/>
          <a:stretch/>
        </p:blipFill>
        <p:spPr>
          <a:xfrm>
            <a:off x="4700520" y="3147840"/>
            <a:ext cx="4443480" cy="312264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"/>
          <p:cNvPicPr/>
          <p:nvPr/>
        </p:nvPicPr>
        <p:blipFill>
          <a:blip r:embed="rId5"/>
          <a:stretch/>
        </p:blipFill>
        <p:spPr>
          <a:xfrm>
            <a:off x="0" y="3156120"/>
            <a:ext cx="444024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Imagen 2" descr=""/>
          <p:cNvPicPr/>
          <p:nvPr/>
        </p:nvPicPr>
        <p:blipFill>
          <a:blip r:embed="rId2"/>
          <a:stretch/>
        </p:blipFill>
        <p:spPr>
          <a:xfrm>
            <a:off x="4737240" y="-6480"/>
            <a:ext cx="440676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Imagen 4" descr=""/>
          <p:cNvPicPr/>
          <p:nvPr/>
        </p:nvPicPr>
        <p:blipFill>
          <a:blip r:embed="rId3"/>
          <a:stretch/>
        </p:blipFill>
        <p:spPr>
          <a:xfrm>
            <a:off x="0" y="3121200"/>
            <a:ext cx="4483080" cy="3149280"/>
          </a:xfrm>
          <a:prstGeom prst="rect">
            <a:avLst/>
          </a:prstGeom>
          <a:ln w="0">
            <a:noFill/>
          </a:ln>
        </p:spPr>
      </p:pic>
      <p:pic>
        <p:nvPicPr>
          <p:cNvPr id="75" name="Imagen 6" descr=""/>
          <p:cNvPicPr/>
          <p:nvPr/>
        </p:nvPicPr>
        <p:blipFill>
          <a:blip r:embed="rId4"/>
          <a:stretch/>
        </p:blipFill>
        <p:spPr>
          <a:xfrm>
            <a:off x="0" y="0"/>
            <a:ext cx="4483080" cy="30891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7" descr=""/>
          <p:cNvPicPr/>
          <p:nvPr/>
        </p:nvPicPr>
        <p:blipFill>
          <a:blip r:embed="rId5"/>
          <a:stretch/>
        </p:blipFill>
        <p:spPr>
          <a:xfrm>
            <a:off x="4737240" y="3176640"/>
            <a:ext cx="440676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3" descr=""/>
          <p:cNvPicPr/>
          <p:nvPr/>
        </p:nvPicPr>
        <p:blipFill>
          <a:blip r:embed="rId1"/>
          <a:stretch/>
        </p:blipFill>
        <p:spPr>
          <a:xfrm>
            <a:off x="0" y="6270480"/>
            <a:ext cx="8894880" cy="596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913960" cy="63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2"/>
          <p:cNvSpPr/>
          <p:nvPr/>
        </p:nvSpPr>
        <p:spPr>
          <a:xfrm>
            <a:off x="0" y="3619440"/>
            <a:ext cx="1838160" cy="64260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  <a:ea typeface="Tahoma"/>
              </a:rPr>
              <a:t>SUBMEDIDA 13.2. AJUSTE GRU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5T21:03:59Z</dcterms:created>
  <dc:creator>Usuario</dc:creator>
  <dc:description/>
  <dc:language>en-US</dc:language>
  <cp:lastModifiedBy>Usuario</cp:lastModifiedBy>
  <dcterms:modified xsi:type="dcterms:W3CDTF">2017-06-20T08:12:32Z</dcterms:modified>
  <cp:revision>41</cp:revision>
  <dc:subject/>
  <dc:title>Presentación de PowerPoint</dc:title>
</cp:coreProperties>
</file>